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37C4-6263-412B-BD50-E2BE7497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1B03-8E6B-4B27-9D47-5E859CD3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774A-A473-494C-8D6A-1A5125EF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5932-FFB1-4DCB-960C-809DE116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8448-76F2-48CD-89B8-9E4CAD7F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BA49-1BC2-4C42-B5E4-BB7BE012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68ED-8787-4C24-AD4F-10B62A83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E83A-2CB9-4B12-A5F1-FE9E581A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7A29-3DA7-4BFB-8FBC-0C7CF889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FA02-8A28-431A-BB68-DADACF64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D786-1656-4D57-A89A-6C3E26CA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DA41-9D03-49E1-A93F-00E1250A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EA4D-2ADD-4450-95E7-EFC8B12E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7E2D-DD4B-4BFA-8C35-1909AA12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A03B-03E9-4052-A95B-06100355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55F2-5680-49F1-B2A9-0728F6CB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D108-BE56-4B21-BB21-EAE189D3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C8FA-C9C4-4DDE-A274-2292C22F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B8D1-E4EA-4C90-923E-1F6B64D8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1D50-6FB6-40E6-B788-FA3FC930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CD1-EBEB-42C9-B4CF-7D67F104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E051-5FF5-4F60-869C-5C565D36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BE0D-2CF2-462C-B623-FCC4D56C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D44D-7D0F-44BD-8E98-5F7E8723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ahoma"/>
              </a:rPr>
              <a:t>&lt;date/time&gt;</a:t>
            </a:r>
            <a:r>
              <a:rPr b="0" lang="en-US" sz="1400" spc="-1" strike="noStrike">
                <a:solidFill>
                  <a:srgbClr val="5e574e"/>
                </a:solidFill>
                <a:latin typeface="Tahoma"/>
              </a:rPr>
              <a:t>Spring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5e574e"/>
                </a:solidFill>
                <a:latin typeface="Tahoma"/>
              </a:rPr>
              <a:t>CS 74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9E03-B8DD-4ADF-8EA3-85CB3D0187FF}" type="slidenum">
              <a:rPr b="0" lang="en-US" sz="1400" spc="-1" strike="noStrike">
                <a:solidFill>
                  <a:srgbClr val="5e574e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46438" b="0"/>
          <a:stretch/>
        </p:blipFill>
        <p:spPr>
          <a:xfrm>
            <a:off x="685800" y="914400"/>
            <a:ext cx="7597800" cy="4557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rcRect l="52954" t="0" r="0" b="0"/>
          <a:stretch/>
        </p:blipFill>
        <p:spPr>
          <a:xfrm>
            <a:off x="8229600" y="914400"/>
            <a:ext cx="58248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D7B3-0EF0-44D2-845E-9EF011C6A004}" type="slidenum">
              <a:rPr b="0" lang="en-US" sz="1400" spc="-1" strike="noStrike">
                <a:solidFill>
                  <a:srgbClr val="5e574e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46438" b="0"/>
          <a:stretch/>
        </p:blipFill>
        <p:spPr>
          <a:xfrm>
            <a:off x="666720" y="2209680"/>
            <a:ext cx="7597800" cy="455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52954" t="0" r="0" b="0"/>
          <a:stretch/>
        </p:blipFill>
        <p:spPr>
          <a:xfrm>
            <a:off x="8256600" y="2211480"/>
            <a:ext cx="582480" cy="455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ftercare Support System Desig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7920" y="35812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na K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rish Venkate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jay Ramnath Jayaram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ur Solu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33526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2514600"/>
            <a:ext cx="2590920" cy="2209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638680" y="3124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200400" y="2590920"/>
            <a:ext cx="2514600" cy="2209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019920" y="2362320"/>
            <a:ext cx="3124080" cy="23810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666880" y="327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estions &amp; Comments ??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895120" y="3808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ssue #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ients are unable to understand discharge diagnosis and thus do not adhere to medical advi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ing additional visual illustrations improves patient’s understanding of their diagno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idence suggests that there has been 20% increase (65%:43%) when provided with visual illust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ients with no-educational background are found to have greater effect (1.8 times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Visual Illustration Exampl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953240" cy="4914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7200" y="647712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: Annals of Emergency Medicine, Vol 25 Issue 3 Year 1995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ssue #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tients are un-able to follow up as instructed by the ED staf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4% of the patients are unable to obtain an appoint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% “feel” that the symptoms are g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% are unalarmed by the sympto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% do not understand the seriousn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9% do not understand the instru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% othe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647712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: Annals of Emergency Medicine, Vol 34 Issue 5 Year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ollow up rates and finding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191440" cy="403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57200" y="640080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: Annals of Emergency Medicine, Vol 34 Issue 5 Year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oblem Statemen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Patients leave the hospital without comprehension of discharge diagnosis which commonly results i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Patients not adhering to medical ad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Ineffective Follow up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257800" y="3581280"/>
            <a:ext cx="28954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lution #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6840" y="1447560"/>
            <a:ext cx="8178840" cy="2227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3828960"/>
            <a:ext cx="817884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icrosoft Computer – on – wheels for the patients to visually see the diagn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graphical/visual illustrations to make them understand the significance of me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formation on key unknown ter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743200" y="1295280"/>
            <a:ext cx="3581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lution # 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6840" y="1447560"/>
            <a:ext cx="8178840" cy="2227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3828960"/>
            <a:ext cx="817884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phone alarms and follow-ups so that the patients are reminded weekly about the medication and appoint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124080" y="1523880"/>
            <a:ext cx="25146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lution#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6840" y="1447560"/>
            <a:ext cx="8178840" cy="2227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3809880"/>
            <a:ext cx="817884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-based personal medication discharge system providing patient specific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llows patients to know more about the treatments and follow 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819520" y="1371600"/>
            <a:ext cx="31240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22:36:58Z</dcterms:created>
  <dc:creator>Jim Foley</dc:creator>
  <dc:description/>
  <dc:language>en-US</dc:language>
  <cp:lastModifiedBy>Girish</cp:lastModifiedBy>
  <dcterms:modified xsi:type="dcterms:W3CDTF">2008-10-09T16:08:05Z</dcterms:modified>
  <cp:revision>14</cp:revision>
  <dc:subject/>
  <dc:title>PowerPoint Presentation</dc:title>
</cp:coreProperties>
</file>